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C53-5876-462F-A9C2-42CD4DCC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60F-AF89-4786-AA04-4FAA095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2E0-7365-408D-B222-3A0E41F3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FC3-E75A-4E84-B78C-98EB1EEA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F1B-E06C-4CB7-BD0C-96C565B1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C9AF-F37D-45F2-AFB6-D26E6CF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1EE1-F895-4E2D-B083-23F2666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DEF0-170C-412A-B4C9-F804152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BE4F-804C-4742-9155-4CB009E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89B9-817D-4694-ABC8-D28475D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D4BD-1A79-48E4-BF7B-7A59C14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6C7-BC33-4332-878A-D2E13617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1276-7444-420E-BD4A-6C517D2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90D-5D1B-465D-ABF6-87FD973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892A-92FA-45A4-BE9D-AF50EE2B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A90B-378F-445A-8E93-9D5A959C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A274-4ACD-42D1-BC3A-8C5C099B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C50-3210-44AF-B3B0-8F698F83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CDC-C1FB-4817-94D8-7607C72B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94F-C5B5-401A-9F07-8AA2C29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F59-7462-4A80-8C5C-BFD3330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E97-00EB-4CD2-8A41-84F233B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54D-AD8E-41F4-85DF-57022F3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BF3-B714-46A6-8D00-836BBE8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E3C-B643-4241-AA64-2A6C84B7BF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538-BA99-4627-85AE-DE210C88A58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morning!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e take a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½ sh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out your 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2320" y="32400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 = DIAMO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 = HEAR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 = CLUB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 = SP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781680" y="4772160"/>
            <a:ext cx="1652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your EXPERT GROUPS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ke a circle/hub with your desk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d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art 1 ON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 your biographies, answer Q’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arize your philosoph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out “Philosopher” side of your Government survey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623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 minute stretch break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76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make new groups according to the number at the top of your Philosopher’s biograph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the EXPERT on your philosopher in the new gro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meet three other philosophe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it, wait, don’t move yet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15271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2 - # 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troductions and no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RYONE MAKE THIS CHANGE FOR STEP 2 and 3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Instead of choosing 4 statements from your surveys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Write these questions at top of “Statement #” tabl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Who should rul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ow should rulers be chose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What is the ideal (best) form of governmen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an people be trusted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18632"/>
          <a:stretch/>
        </p:blipFill>
        <p:spPr>
          <a:xfrm>
            <a:off x="7162920" y="4267080"/>
            <a:ext cx="152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kay, now JIGSAW to your new groups (by #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rt with introduction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4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Your “Exit Ticket” out of class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fore you leave class today, you must complete a Philosopher Jigsaw EXIT TIC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xit Ticket is a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½ gray she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wil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ay after class if you do not finish your Exit Tic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nk about “morals” over the weekend. BE SAFE and have fun!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61280" y="2438280"/>
            <a:ext cx="1401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nk Now! Connect Tw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e take a ½ sh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out you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lete the ½ sheet ON YOUR 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16208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nk Now! Connect Tw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have finished the ½ sheet, pick one connection you made that you are willing to share with the class.  Everyone must pick one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5816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mework due MONDAY, 10/17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pter 22, Section 2 – the rest of it. Fill out not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You have a QUIZ on Section 2 on Mon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es it connect to u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vernment Surve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YOUR OWN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the statements and think about YOUR opinio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AGRE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DISAGRE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nk about wh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gnore “Philosopher” par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27840" y="4495680"/>
            <a:ext cx="14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81680" y="4772160"/>
            <a:ext cx="1652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your EXPERT GROUPS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ke a circle/hub with your desk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d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art 1 ON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 your biographies, answer Q’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arize your philosoph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out “Philosopher” side of your Government survey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15:51Z</dcterms:created>
  <dc:creator>MCPASD</dc:creator>
  <dc:description/>
  <dc:language>en-US</dc:language>
  <cp:lastModifiedBy>MCPASD</cp:lastModifiedBy>
  <dcterms:modified xsi:type="dcterms:W3CDTF">2011-10-13T14:29:38Z</dcterms:modified>
  <cp:revision>6</cp:revision>
  <dc:subject/>
  <dc:title>THE POWER!</dc:title>
</cp:coreProperties>
</file>